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D05-762A-4A6E-A903-38FCFA6D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55D-CCFE-40B2-8CD2-5B36085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6890-DEDE-45B9-8790-5A11DAF5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E67A5-8C4F-43DA-B4F4-BE1A4FF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BD6E3-E4FF-4701-8011-B66F7853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7809-5637-4C62-BD02-8F67165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A0FEF-8EE1-4655-ADD2-E7C68BF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DD194-B0BB-47ED-A0FE-11D9EC8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DED86-8E46-49C6-9BDE-E58CBB3D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540D-6542-41BB-95C4-24931ECE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711C-3A94-4ED6-9F31-E4FB6153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9EAA2-242E-4260-8405-A490B6A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CEC-A7F2-441D-82F2-4B84EF06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7F3F5-07DD-46D5-AE65-405637F1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3EBE4-4604-4503-BDAF-EBD68A8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320A8-9D63-4C78-881F-C7891BD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6D73B-D15D-4315-AA8C-DB162E2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0D22C-82E3-4DA6-AF76-C564DFA0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5839F-6FFF-4B13-9B83-FDD489E4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A0CB5-BE06-4C96-A045-872D6D4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C31BB-FA94-4732-9937-7F4A620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B8DE-0BB9-45BC-85D2-4B0EB6B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42D88-4DD2-48D4-A115-CD4CD369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EFA-DC89-4B9A-9BA2-C09BBF49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B4467-3A96-4FF5-BDB6-7A2DE875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F88B-3A5F-4114-A539-C9633CCA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B0FAF-A76C-460F-9544-1EBFE600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AE80C-D696-4603-84DE-8E0C7D6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C47D-13C6-4383-91B2-E2CC05D7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F48C-8E00-45B8-8132-F7B9087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42696-0DD3-4C3A-9DFB-EB21376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40F78-29BC-4D76-8DAD-673CBEA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5561-6E41-499F-A49E-96E1D1A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9C18-03AE-4F46-9679-B128646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0B87-84EB-4681-B4AE-E69C6711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3619-92DC-437E-B284-9E01996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8B6A2-CBF9-4BBB-99F7-90672E0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EC0CF-D30B-470B-87A2-D21B9FE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E1903-F860-4CCB-8A44-4F27607A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671A7-5200-4DB0-A04E-DD710AB2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4107A-2573-43C1-B755-6476106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FF94E-D298-4E7E-934D-013F6E19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DCAA-B0CF-460B-A658-8CD75B17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1A5AB-B645-4221-81D9-9FA3159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3855B-8697-4840-A785-ADABDC1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F7F-DE35-4D43-BDAC-AC7F607F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CDBDD-14BE-435F-A692-2C42F20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AD8E4-EDBA-45F2-BB59-F09F5E6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E7FF7-0675-45B6-B28F-D1D7A4B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29B7E-2D73-459D-84EF-B1DEFB34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F05C1-D82C-4148-A092-60EB793A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0CD1-F33E-4E64-9687-AA9ECFAD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09F6-407D-48AF-A0A9-102BF6A4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941-83D3-40E6-91F6-0F866497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BCE6-45EA-451D-B37C-A18C4F45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911F-4481-462B-B88C-26905B3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B2C-8C79-4519-A3D3-ECA3ED7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B3A-7C48-4792-A624-4663BA92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85A4-9284-47B7-960E-4262EA5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1488-75E8-44E7-8CB4-94A469C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FC38-33FA-46CB-8983-0568A9F2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6B1F-F978-4F43-92E3-52D489D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D8B6-2DC8-4AF9-B64C-53A6AD51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1E83-3AB9-4C5C-BBE1-B7EA76C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5B5B-3B93-49F3-9AD5-EEF9DD8D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56EE-90DA-4AC8-B04C-CFEC584E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983B-A348-4FEC-8894-82677092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60B-F868-4228-8DD1-0CB0C7B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12C7-190F-4225-B028-B9BBF5E1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F97A-FDAE-4DFD-9A68-D78D439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5772-3A2C-4005-85E5-1A1E25A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589A-DFD2-4C8F-A7FC-16EB5AC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6605-815A-4B49-B517-C1B4720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1CA7-4ACF-46F3-94FF-462BE2DD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8165-91A6-4FD1-80E6-4E17C90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2970-394E-4AF7-87E6-7BAF2B4B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2426-1AF4-479D-992D-32939429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B229-9AF2-47DA-84E2-8D4E910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8F4-BB16-43F0-A1A8-4DFF014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FD58B-0E3E-42F1-AF0A-5A88BE6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665C-23D2-4A17-8E39-911F3CB1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A1DF-0CA6-48FD-8967-6B930AB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E099-6E6E-4581-90C1-D9A78BF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F5C9-0E34-4D52-A67C-5BFF924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40A0-1A01-4A8E-A9FC-AA9D7EB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EEA6-8071-4834-A6AE-BB18964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2A08-9751-4FBE-94D7-6D0A7F2D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6410-6F3B-4306-8EC0-9B6461C8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2FCC-8BC2-46C9-B500-848D3128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B33-1DDB-4678-BF92-06A1971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A09A-1227-45E4-9283-11B57F1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37A1-2515-4EA8-97C4-78BD7BB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F2D3-8AA5-4478-9965-03C4D94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30E2-FD2A-4835-8FC5-2456031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E4394-1C77-44DB-8538-AC67255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03926-61A4-424D-B192-2207AED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81F2-39AE-40EF-8907-D455945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8283-1683-41EB-83A0-77584D3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3307-6281-4AA4-ADA1-ECFEC9DC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A3CD1-D416-4FDF-BDFD-CEB9FE15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0CD-983D-42D2-BE44-3F2C8DCD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DDA8-F22D-4D42-88C4-CA8D1223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3613E-1A46-460B-9DBC-DB1DA6AB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3553-31C2-41D9-9A2E-CC34D9A1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8BB2-CE53-4257-B0DF-451E7D0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D2F0-0011-4A0E-BBB0-E362F1C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027A-D97C-4074-9026-297CE7A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98BFD-4A49-401E-814C-C0D4C36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B084-0334-4A64-BC04-7B563CF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2448-01F1-4C8D-A15B-A72FC83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30904-4ABB-415E-A521-D0917B6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EBF-6D91-4C40-8733-2E3CD21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242C-D3F3-4A62-85EF-48A89F43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00C68-C76B-4C4B-8C83-74C09BF1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4394-64A8-408B-8E21-AB055F85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3272-5D5E-49B2-B2E0-BA5B37C6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8446-56E7-4017-8112-6E22EFB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BA68-68F6-4A07-B5A4-07782B4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3C6C-0644-4D34-BCC3-5F18DC1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1BFE-213F-4A9A-B839-43F2822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3218-3E4F-4F8A-BF9C-871E55A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47EF-B938-4B23-BC75-1D8FAC8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7AD-27CA-4965-A6C7-D342237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E8E31-2B97-418B-9B1D-CBF8CED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AFCB-CB64-489C-B81F-1D864C8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52EE-E5F2-4D9D-A272-D80CCDC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01C9-8F28-407F-90D5-A1D99339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A88D-9AB8-4F34-9A9D-AB43501B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6188-7E8B-4E72-B370-08C52FC2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B332-2C97-457E-97D6-E5E4130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D8F4-5A60-40C3-8E89-28DD0B92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C533B-3905-497D-83E5-34A1A358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5D95B-BAC6-4ABC-A6C4-A8F3014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96B-923D-4C6E-AB5A-793DF5F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FDAF-6D53-4FDE-AF09-EB87E4A9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066E-B4E7-4E6B-A7A5-1113ED0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58FB7-C80F-4559-8BB8-2DDE074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EF63-4C6D-49F4-B8A3-B1E482E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42B0E-BF43-4B8F-8CDE-594E2B19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6E9E-53E9-4C24-8801-FD97191B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5BB7B-0591-48F8-919B-5B3BEC71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29C8F-E6FA-47F0-A9D0-2CDF1DEB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BB4DD-95D1-48BC-AFD5-E636C444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F6277-DB0D-4B4E-AA69-A5379D8F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10E8-15B0-4B50-9CFE-A0DE389DBB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5AC-A335-4DBE-9310-955A3A2AE0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E70-EE70-40FF-B535-F4CFF393D0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07A3-285D-46B5-B31B-227A0AC921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8D5-1CA2-4341-B07E-05D361C470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4DF-0039-4071-A5D3-9C49A80D93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8DD4-D1B6-4CD7-A97C-5D03514799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211-1C6B-4C15-8A5B-EAA07215B9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545-A095-423F-BF81-CD844602EC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EA6-DEAD-4E06-BEB6-E96AD3979B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FD1-CCC2-4B0A-9A92-66922C8EE7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7A9-1767-4AA9-855A-FA7BEFCA2A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0 Haleluja! Kráľovi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Kráľovi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e srdcia vzdáv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na jeho sláv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ú pieseň spie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za nás znášal mu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Golgote trpel,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hriešnik z jeho ru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al život, spásu z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Kristus pri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ohol hriech, smrti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e keď z hrobu vy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avil svetu Bož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ranené jeho dl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ečný dar spa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patrí vďakyvzd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celého stvor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Náš Pán ži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máme večn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ou nech nám srdce bi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prišiel vykúp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milosť spásonos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ká našu ozve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ie láskou šíriť ra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iť verne blížnemu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35:57Z</dcterms:modified>
  <cp:revision>29</cp:revision>
  <dc:subject/>
  <dc:title>Je veľký náš Pán, on slávy je Kráľ Nech do všetkých strán  spev vrúcnych znie chvál.</dc:title>
</cp:coreProperties>
</file>